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media/image21.png" ContentType="image/png"/>
  <Override PartName="/ppt/media/image19.png" ContentType="image/png"/>
  <Override PartName="/ppt/media/squish1.wav" ContentType="audio/x-wav"/>
  <Override PartName="/ppt/media/image17.png" ContentType="image/png"/>
  <Override PartName="/ppt/media/jungle2.wav" ContentType="audio/x-wav"/>
  <Override PartName="/ppt/media/image20.png" ContentType="image/png"/>
  <Override PartName="/ppt/media/image2.jpeg" ContentType="image/jpeg"/>
  <Override PartName="/ppt/media/image18.png" ContentType="image/png"/>
  <Override PartName="/ppt/media/fly.wav" ContentType="audio/x-wav"/>
  <Override PartName="/ppt/media/image27.png" ContentType="image/png"/>
  <Override PartName="/ppt/media/image16.png" ContentType="image/png"/>
  <Override PartName="/ppt/media/plane.wav" ContentType="audio/x-wav"/>
  <Override PartName="/ppt/media/image3.png" ContentType="image/png"/>
  <Override PartName="/ppt/media/image26.png" ContentType="image/png"/>
  <Override PartName="/ppt/media/bikebell.wav" ContentType="audio/x-wav"/>
  <Override PartName="/ppt/media/image22.png" ContentType="image/png"/>
  <Override PartName="/ppt/media/image23.png" ContentType="image/png"/>
  <Override PartName="/ppt/media/WOLF.WAV" ContentType="audio/x-wav"/>
  <Override PartName="/ppt/media/image24.png" ContentType="image/png"/>
  <Override PartName="/ppt/media/image8.png" ContentType="image/png"/>
  <Override PartName="/ppt/media/prairiedog.wav" ContentType="audio/x-wav"/>
  <Override PartName="/ppt/media/image5.gif" ContentType="image/gif"/>
  <Override PartName="/ppt/media/image28.gif" ContentType="image/gif"/>
  <Override PartName="/ppt/media/image25.png" ContentType="image/png"/>
  <Override PartName="/ppt/media/image29.png" ContentType="image/png"/>
  <Override PartName="/ppt/media/image6.png" ContentType="image/png"/>
  <Override PartName="/ppt/media/mine.wav" ContentType="audio/x-wav"/>
  <Override PartName="/ppt/media/carcrsh.wav" ContentType="audio/x-wav"/>
  <Override PartName="/ppt/media/image7.png" ContentType="image/png"/>
  <Override PartName="/ppt/media/image9.png" ContentType="image/png"/>
  <Override PartName="/ppt/media/image1.jpeg" ContentType="image/jpeg"/>
  <Override PartName="/ppt/media/image10.png" ContentType="image/png"/>
  <Override PartName="/ppt/media/groan1.wav" ContentType="audio/x-wav"/>
  <Override PartName="/ppt/media/image4.png" ContentType="image/png"/>
  <Override PartName="/ppt/media/image11.png" ContentType="image/png"/>
  <Override PartName="/ppt/media/GIGGLES.wav" ContentType="audio/x-wav"/>
  <Override PartName="/ppt/media/image12.png" ContentType="image/png"/>
  <Override PartName="/ppt/media/image13.png" ContentType="image/png"/>
  <Override PartName="/ppt/media/carhorn2.wav" ContentType="audio/x-wav"/>
  <Override PartName="/ppt/media/image14.png" ContentType="image/pn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0F89D-6D69-47C1-835A-DCF3598AA6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1D9B7-1A85-4F8E-958A-7A1A08BBF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8E0F5-E340-45F2-9E7A-06FC6E6FFC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4441E-5613-45AA-8FCD-20AD50C15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4B09E-B287-474E-B033-DBD1C8EC1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6F61B-12FE-4BF0-B229-2F4129BB6C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E5BC4-9559-4DF8-A85C-7988206F8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4F8C0-798D-4DB4-8175-1C1B73A5F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B9C39-C166-48B9-BF51-355B3A5E0B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B0731-CBF4-445A-9AAF-A6C21045B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F9C2E-D8D7-4B5D-9464-0C74BF0D22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2F0D0-22AF-48DD-B8E1-73DB463DB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33D35-7E45-40BC-A6EA-9BDD2AD33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1C0CE-132E-400E-95E7-DADD94CBC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F0580-DB87-4FB6-ACAA-A4631C50D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05CD7-1F9C-4B5F-B72D-8638B45CC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816E7-7A7F-46D1-BA96-F20D0720D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B93AD-A44E-4FB4-B4D3-98EDD8B93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975A4-F332-438F-A65D-67F4A4D5D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0C7A7-E368-4DE0-AD4D-17F957B88A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86331-9EAE-412B-8D05-DE371D2CC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4CBC3-5FD0-4C5B-8C51-F6782B052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2A4EA-1F72-4B1B-B9AB-5FE06B3DA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51754-0414-4AE4-9443-9570C68001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C7588-7B6A-4ABC-8162-25F0A9D39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667A0-2A89-4B26-8711-F42A4E876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DEAFF-5EC4-4C8C-ABAB-A6EBDB6192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05990-BB5E-4B1C-833F-4BA428E23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B3E49-3369-47A1-B964-DE02FB0CA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5DF44-0D72-4B7C-921F-A538C977A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0952F-0325-4C57-B6F1-0D2D16177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73D0F-7BAC-47B4-BB75-622B55723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42310-426B-4253-96B3-C438812C1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AA397-E935-4E2E-BEE8-D53C983C3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0395C-48EA-4197-B232-6023652F9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F59EA-49AD-4022-BB9F-645F5D86B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4E050-636F-42C2-A391-2631CB903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FEE69-3B9A-4E17-B46C-AB90589BA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39295-59D0-4032-9ECE-222D443AA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94A1D-F252-4EB1-9401-0B09D33D0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6A10A-24CD-434E-924A-F24E9A4970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C25FD-BB6D-441A-9FA4-DEF4842AE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4043A-5DF6-4AE7-BBF1-03DD24046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ECFAC-9CC3-4410-A346-D18CDCD652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EFD0D-58B7-4C02-88AC-451684BEC9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AF400-A3AA-48DF-BCF1-41C69B2C4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F715-9829-425A-9087-170F5026A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72388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00200" y="4093920"/>
            <a:ext cx="72388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A831-7EF7-4029-A09F-B7F8F0831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3532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09640" y="1904760"/>
            <a:ext cx="3532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00200" y="4093920"/>
            <a:ext cx="3532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09640" y="4093920"/>
            <a:ext cx="3532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0A9F-04E2-4F4C-BF24-9ECCA6B37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23306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47840" y="1904760"/>
            <a:ext cx="23306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5480" y="1904760"/>
            <a:ext cx="23306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00200" y="4093920"/>
            <a:ext cx="23306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47840" y="4093920"/>
            <a:ext cx="23306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5480" y="4093920"/>
            <a:ext cx="23306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0449-1D98-4585-93A1-F41DAE3E2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8EB1C-B822-4B40-A6B4-C4765E6D6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600200" y="19047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3BF8A-021B-4393-A297-29F437C12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4843C-7B72-45A8-8D16-F374EF058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3532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09640" y="1904760"/>
            <a:ext cx="3532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3EB0E-9612-40A9-8699-A9F72A531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D8C49-7211-4E0F-AB16-90F51B92D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94920" y="38088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C7DFA-D790-4ABC-A409-9053C39CD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3532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09640" y="1904760"/>
            <a:ext cx="3532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600200" y="4093920"/>
            <a:ext cx="3532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B95E5-4D63-43EA-AFB9-6FB158029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00200" y="19047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2791-1D1D-4D10-9C24-919EB2335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3532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09640" y="1904760"/>
            <a:ext cx="3532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09640" y="4093920"/>
            <a:ext cx="3532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02DA2-2AFC-47F2-A299-5101434B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3532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09640" y="1904760"/>
            <a:ext cx="3532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600200" y="4093920"/>
            <a:ext cx="72388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6CB32-9F9A-4AA1-A3E3-F1353AEB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72388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600200" y="4093920"/>
            <a:ext cx="72388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33ACF-9AF3-404C-AFB0-6CECB3812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3532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09640" y="1904760"/>
            <a:ext cx="3532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600200" y="4093920"/>
            <a:ext cx="3532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09640" y="4093920"/>
            <a:ext cx="3532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4B487-F696-4D33-91B3-0E287E8F1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23306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47840" y="1904760"/>
            <a:ext cx="23306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95480" y="1904760"/>
            <a:ext cx="23306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600200" y="4093920"/>
            <a:ext cx="23306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47840" y="4093920"/>
            <a:ext cx="23306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95480" y="4093920"/>
            <a:ext cx="23306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5921D-2C53-4C9D-8E19-6D0878E94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FC54-0770-444F-95F3-EBB29140F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3532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09640" y="1904760"/>
            <a:ext cx="3532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8386-9E89-42B6-9E77-79C76D878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96B8-24C2-4F76-B433-C1C1F2900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38088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CC9E-80C3-4BA4-A206-83D91FA21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3532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09640" y="1904760"/>
            <a:ext cx="3532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00200" y="4093920"/>
            <a:ext cx="3532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D33C-C776-4777-8F24-61B2AD89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3532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09640" y="1904760"/>
            <a:ext cx="3532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09640" y="4093920"/>
            <a:ext cx="3532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E462-F967-4871-B180-90FAB36B5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3532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09640" y="1904760"/>
            <a:ext cx="3532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00200" y="4093920"/>
            <a:ext cx="72388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DD32-E678-442F-87C7-71E35FB6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599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13482-45CF-4EC5-9622-86484DC3FBDD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600200" y="19047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600200" y="19047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5235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290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3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CD750-6672-4BE5-802D-DD0B1E9395EF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audio" Target="../media/plan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audio" Target="../media/carhorn2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audio" Target="../media/carcr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audio" Target="../media/min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audio" Target="../media/bikebell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audio" Target="../media/bikebell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audio" Target="../media/fly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audio" Target="../media/fly.wav"/><Relationship Id="rId7" Type="http://schemas.openxmlformats.org/officeDocument/2006/relationships/audio" Target="../media/fly.wav"/><Relationship Id="rId8" Type="http://schemas.openxmlformats.org/officeDocument/2006/relationships/audio" Target="../media/fly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audio" Target="../media/squish1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audio" Target="../media/squish1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audio" Target="../media/prairiedog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audio" Target="../media/WOLF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audio" Target="../media/GIGGL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audio" Target="../media/groan1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ucalgary.ca/UofC/eduweb/grammar/course/speech/1_1c.htm" TargetMode="External"/><Relationship Id="rId3" Type="http://schemas.openxmlformats.org/officeDocument/2006/relationships/image" Target="../media/image28.gif"/><Relationship Id="rId4" Type="http://schemas.openxmlformats.org/officeDocument/2006/relationships/image" Target="../media/image29.png"/><Relationship Id="rId5" Type="http://schemas.openxmlformats.org/officeDocument/2006/relationships/audio" Target="../media/jungle2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828800"/>
            <a:ext cx="464796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Turkey for Thanksgiving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429000" y="380952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6600"/>
                </a:solidFill>
                <a:uFillTx/>
                <a:latin typeface="Arial"/>
              </a:rPr>
              <a:t>High-Frequency Words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676520" y="21337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vow pledge, __________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1752480" y="3809880"/>
            <a:ext cx="784224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ehind, brought, door, everybody, minute, promise, sorr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BUILD WORDS!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96600"/>
                </a:solidFill>
                <a:latin typeface="Arial"/>
              </a:rPr>
              <a:t>a b d i n o r t y</a:t>
            </a:r>
            <a:endParaRPr b="0" lang="en-US" sz="80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00200" y="190512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b to 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new wor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2057400" y="3657600"/>
            <a:ext cx="518148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200" spc="-1" strike="noStrike">
                <a:solidFill>
                  <a:srgbClr val="000000"/>
                </a:solidFill>
                <a:latin typeface="Arial"/>
              </a:rPr>
              <a:t>rain</a:t>
            </a:r>
            <a:endParaRPr b="0" lang="en-US" sz="1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96600"/>
                </a:solidFill>
                <a:latin typeface="Arial"/>
              </a:rPr>
              <a:t>a b d i n o r t y</a:t>
            </a:r>
            <a:endParaRPr b="0" lang="en-US" sz="80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00200" y="190512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b to 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new wor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2057400" y="3657600"/>
            <a:ext cx="518148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200" spc="-1" strike="noStrike">
                <a:solidFill>
                  <a:srgbClr val="000000"/>
                </a:solidFill>
                <a:latin typeface="Arial"/>
              </a:rPr>
              <a:t>brain</a:t>
            </a:r>
            <a:endParaRPr b="0" lang="en-US" sz="1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96600"/>
                </a:solidFill>
                <a:latin typeface="Arial"/>
              </a:rPr>
              <a:t>a b d i n o r t y</a:t>
            </a:r>
            <a:endParaRPr b="0" lang="en-US" sz="80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600200" y="190512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b to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new wor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1981080" y="3429000"/>
            <a:ext cx="5181840" cy="43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200" spc="-1" strike="noStrike">
                <a:solidFill>
                  <a:srgbClr val="000000"/>
                </a:solidFill>
                <a:latin typeface="Arial"/>
              </a:rPr>
              <a:t>brain</a:t>
            </a:r>
            <a:endParaRPr b="0" lang="en-US" sz="1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96600"/>
                </a:solidFill>
                <a:latin typeface="Arial"/>
              </a:rPr>
              <a:t>a b d i n o r t y</a:t>
            </a:r>
            <a:endParaRPr b="0" lang="en-US" sz="80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600200" y="190512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b to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new wor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1981080" y="3429000"/>
            <a:ext cx="5181840" cy="43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200" spc="-1" strike="noStrike">
                <a:solidFill>
                  <a:srgbClr val="000000"/>
                </a:solidFill>
                <a:latin typeface="Arial"/>
              </a:rPr>
              <a:t>train</a:t>
            </a:r>
            <a:endParaRPr b="0" lang="en-US" sz="1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96600"/>
                </a:solidFill>
                <a:latin typeface="Arial"/>
              </a:rPr>
              <a:t>a b d i n o r t y</a:t>
            </a:r>
            <a:endParaRPr b="0" lang="en-US" sz="80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600200" y="190512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ai to ay and drop th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new wor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981080" y="3429000"/>
            <a:ext cx="5181840" cy="43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200" spc="-1" strike="noStrike">
                <a:solidFill>
                  <a:srgbClr val="000000"/>
                </a:solidFill>
                <a:latin typeface="Arial"/>
              </a:rPr>
              <a:t>train</a:t>
            </a:r>
            <a:endParaRPr b="0" lang="en-US" sz="1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96600"/>
                </a:solidFill>
                <a:latin typeface="Arial"/>
              </a:rPr>
              <a:t>a b d i n o r t y</a:t>
            </a:r>
            <a:endParaRPr b="0" lang="en-US" sz="80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600200" y="190512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ai to ay and drop th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new wor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1981080" y="3429000"/>
            <a:ext cx="5181840" cy="43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200" spc="-1" strike="noStrike">
                <a:solidFill>
                  <a:srgbClr val="000000"/>
                </a:solidFill>
                <a:latin typeface="Arial"/>
              </a:rPr>
              <a:t>tray</a:t>
            </a:r>
            <a:endParaRPr b="0" lang="en-US" sz="1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96600"/>
                </a:solidFill>
                <a:latin typeface="Arial"/>
              </a:rPr>
              <a:t>a b d i n o r t y</a:t>
            </a:r>
            <a:endParaRPr b="0" lang="en-US" sz="80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600200" y="190512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op the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new wor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1981080" y="3429000"/>
            <a:ext cx="5181840" cy="43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200" spc="-1" strike="noStrike">
                <a:solidFill>
                  <a:srgbClr val="000000"/>
                </a:solidFill>
                <a:latin typeface="Arial"/>
              </a:rPr>
              <a:t>tray</a:t>
            </a:r>
            <a:endParaRPr b="0" lang="en-US" sz="1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96600"/>
                </a:solidFill>
                <a:latin typeface="Arial"/>
              </a:rPr>
              <a:t>a b d i n o r t y</a:t>
            </a:r>
            <a:endParaRPr b="0" lang="en-US" sz="80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600200" y="190512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op the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new wor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1981080" y="3429000"/>
            <a:ext cx="5181840" cy="43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200" spc="-1" strike="noStrike">
                <a:solidFill>
                  <a:srgbClr val="000000"/>
                </a:solidFill>
                <a:latin typeface="Arial"/>
              </a:rPr>
              <a:t>ray</a:t>
            </a:r>
            <a:endParaRPr b="0" lang="en-US" sz="1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ai and ay words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m paid the bills and put them in the mail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like the quaint painting of the home by the b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nail makes a trail as it inches its way along the s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a gray day because of the r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96600"/>
                </a:solidFill>
                <a:latin typeface="Arial"/>
              </a:rPr>
              <a:t>a b d i n o r t y</a:t>
            </a:r>
            <a:endParaRPr b="0" lang="en-US" sz="80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600200" y="190512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the r to 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new wor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1981080" y="3429000"/>
            <a:ext cx="5181840" cy="43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200" spc="-1" strike="noStrike">
                <a:solidFill>
                  <a:srgbClr val="000000"/>
                </a:solidFill>
                <a:latin typeface="Arial"/>
              </a:rPr>
              <a:t>ray</a:t>
            </a:r>
            <a:endParaRPr b="0" lang="en-US" sz="1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96600"/>
                </a:solidFill>
                <a:latin typeface="Arial"/>
              </a:rPr>
              <a:t>a b d i n o r t y</a:t>
            </a:r>
            <a:endParaRPr b="0" lang="en-US" sz="80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600200" y="190512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the r to 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new wor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1981080" y="3429000"/>
            <a:ext cx="5181840" cy="43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2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1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96600"/>
                </a:solidFill>
                <a:latin typeface="Arial"/>
              </a:rPr>
              <a:t>a b d i n o r t y</a:t>
            </a:r>
            <a:endParaRPr b="0" lang="en-US" sz="80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600200" y="190512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front of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new wor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1981080" y="3429000"/>
            <a:ext cx="5181840" cy="43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2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1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96600"/>
                </a:solidFill>
                <a:latin typeface="Arial"/>
              </a:rPr>
              <a:t>a b d i n o r t y</a:t>
            </a:r>
            <a:endParaRPr b="0" lang="en-US" sz="80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600200" y="190512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front of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new wor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1981080" y="3429000"/>
            <a:ext cx="5181840" cy="43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2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1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Dictation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you stay and paint to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you say we will raise the tr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can’t wait to play over the holi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WORD READING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Read These Words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980720" y="1752120"/>
            <a:ext cx="205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rai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bak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wa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a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aim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ack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ai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4861080" y="1660680"/>
            <a:ext cx="22989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aze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tai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ra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ac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parche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afrai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wa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atch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SORT THE WORDS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 u="sng">
                <a:solidFill>
                  <a:srgbClr val="000000"/>
                </a:solidFill>
                <a:uFillTx/>
                <a:latin typeface="Arial"/>
              </a:rPr>
              <a:t>-s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5600" spc="-1" strike="noStrike" u="sng">
                <a:solidFill>
                  <a:srgbClr val="000000"/>
                </a:solidFill>
                <a:uFillTx/>
                <a:latin typeface="Arial"/>
              </a:rPr>
              <a:t>-es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5600" spc="-1" strike="noStrike" u="sng">
                <a:solidFill>
                  <a:srgbClr val="000000"/>
                </a:solidFill>
                <a:uFillTx/>
                <a:latin typeface="Arial"/>
              </a:rPr>
              <a:t>-ie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SORT THE WORDS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notes buddies hands bunches batches hopes nannies heels ashes boxes ladies babie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SORT THE WORDS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-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notes hope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hands heel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6600"/>
                </a:solidFill>
                <a:uFillTx/>
                <a:latin typeface="Arial"/>
              </a:rPr>
              <a:t>High-Frequency Words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676520" y="1828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THE WORD THAT G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THE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1905120" y="3657600"/>
            <a:ext cx="784224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ehind, brought, door, everybody, minute, promise, sorr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SORT THE WORDS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-e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bunches batches ashes boxe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SORT THE WORDS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-ie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ladies babie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buddies nannie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Similes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. Moose’s smile was as bright as the s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key cried like a bab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Sentence Reading- these words look familiar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as scared when I got lost in the park and forgot my way back to May’s quaint fa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day I shall wait by the sign to watch the birds perch on the birdb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 I wait for the daily train with all the peo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Sentence Reading-these words look familiar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day I will probably be an artist or ride hor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the holidays I bought a purse, a shirt, and a darling ski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 day is pleasant, I sit on the porch before d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819160" y="1828800"/>
            <a:ext cx="464796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What Possessed You?</a:t>
            </a:r>
            <a:endParaRPr b="0" lang="en-US" sz="60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3429000" y="380952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ad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trance"/>
          <p:cNvPicPr/>
          <p:nvPr/>
        </p:nvPicPr>
        <p:blipFill>
          <a:blip r:embed="rId2"/>
          <a:stretch/>
        </p:blipFill>
        <p:spPr>
          <a:xfrm>
            <a:off x="1219320" y="3352680"/>
            <a:ext cx="36320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17160" y="294840"/>
            <a:ext cx="863748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6600"/>
                </a:solidFill>
                <a:latin typeface="Comic Sans MS"/>
              </a:rPr>
              <a:t>What are nouns?</a:t>
            </a:r>
            <a:endParaRPr b="0" lang="en-US" sz="7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34560" y="152388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A noun is a part of speech that describes a person, place, or thing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chair2"/>
          <p:cNvPicPr/>
          <p:nvPr/>
        </p:nvPicPr>
        <p:blipFill>
          <a:blip r:embed="rId2"/>
          <a:stretch/>
        </p:blipFill>
        <p:spPr>
          <a:xfrm>
            <a:off x="5867280" y="4683240"/>
            <a:ext cx="1981440" cy="1641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bob_walking"/>
          <p:cNvPicPr/>
          <p:nvPr/>
        </p:nvPicPr>
        <p:blipFill>
          <a:blip r:embed="rId3"/>
          <a:stretch/>
        </p:blipFill>
        <p:spPr>
          <a:xfrm>
            <a:off x="990720" y="4038480"/>
            <a:ext cx="933480" cy="22100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home2level"/>
          <p:cNvPicPr/>
          <p:nvPr/>
        </p:nvPicPr>
        <p:blipFill>
          <a:blip r:embed="rId4"/>
          <a:stretch/>
        </p:blipFill>
        <p:spPr>
          <a:xfrm>
            <a:off x="2590920" y="4038480"/>
            <a:ext cx="259056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17160" y="659880"/>
            <a:ext cx="8637480" cy="82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6600"/>
                </a:solidFill>
                <a:latin typeface="Comic Sans MS"/>
              </a:rPr>
              <a:t>What is a possessive noun?</a:t>
            </a:r>
            <a:endParaRPr b="0" lang="en-US" sz="48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A possessive noun is a noun that "owns" something else in the sentence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mine"/>
          <p:cNvPicPr/>
          <p:nvPr/>
        </p:nvPicPr>
        <p:blipFill>
          <a:blip r:embed="rId2"/>
          <a:stretch/>
        </p:blipFill>
        <p:spPr>
          <a:xfrm>
            <a:off x="5791320" y="4419720"/>
            <a:ext cx="18111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63748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6600"/>
                </a:solidFill>
                <a:latin typeface="Comic Sans MS"/>
              </a:rPr>
              <a:t>For example:</a:t>
            </a:r>
            <a:endParaRPr b="0" lang="en-US" sz="7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airplane's engine was loud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airplane "owns" the engine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ssessive nouns are often shown with apostroph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aircrafts022"/>
          <p:cNvPicPr/>
          <p:nvPr/>
        </p:nvPicPr>
        <p:blipFill>
          <a:blip r:embed="rId2"/>
          <a:stretch/>
        </p:blipFill>
        <p:spPr>
          <a:xfrm>
            <a:off x="0" y="990720"/>
            <a:ext cx="1428840" cy="90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lan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3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3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Comic Sans MS"/>
              </a:rPr>
              <a:t>Can you make this sentence possessive?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Miguel owns that car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car-red1"/>
          <p:cNvPicPr/>
          <p:nvPr/>
        </p:nvPicPr>
        <p:blipFill>
          <a:blip r:embed="rId2"/>
          <a:stretch/>
        </p:blipFill>
        <p:spPr>
          <a:xfrm>
            <a:off x="2514600" y="3505320"/>
            <a:ext cx="611496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horn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6600"/>
                </a:solidFill>
                <a:uFillTx/>
                <a:latin typeface="Arial"/>
              </a:rPr>
              <a:t>High-Frequency Words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76520" y="1828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orgive, regret, __________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1905120" y="3657600"/>
            <a:ext cx="784224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ehind, brought, door, everybody, minute, promise, sorr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17160" y="385560"/>
            <a:ext cx="8637480" cy="109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6600"/>
                </a:solidFill>
                <a:latin typeface="Comic Sans MS"/>
              </a:rPr>
              <a:t>Answer</a:t>
            </a:r>
            <a:r>
              <a:rPr b="0" lang="en-US" sz="6000" spc="-1" strike="noStrike">
                <a:solidFill>
                  <a:srgbClr val="996600"/>
                </a:solidFill>
                <a:latin typeface="Comic Sans MS"/>
              </a:rPr>
              <a:t>:</a:t>
            </a:r>
            <a:endParaRPr b="0" lang="en-US" sz="60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That is Miguel</a:t>
            </a:r>
            <a:r>
              <a:rPr b="1" lang="en-US" sz="6600" spc="-1" strike="noStrike">
                <a:solidFill>
                  <a:srgbClr val="800000"/>
                </a:solidFill>
                <a:latin typeface="Comic Sans MS"/>
              </a:rPr>
              <a:t>'s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 car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4" descr="car-red1"/>
          <p:cNvPicPr/>
          <p:nvPr/>
        </p:nvPicPr>
        <p:blipFill>
          <a:blip r:embed="rId2"/>
          <a:stretch/>
        </p:blipFill>
        <p:spPr>
          <a:xfrm>
            <a:off x="2514600" y="3505320"/>
            <a:ext cx="611496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crsh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16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Comic Sans MS"/>
              </a:rPr>
              <a:t>Remember: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When there is use of a possessive, the question "Who owns it?" can be asked and answere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selfish"/>
          <p:cNvPicPr/>
          <p:nvPr/>
        </p:nvPicPr>
        <p:blipFill>
          <a:blip r:embed="rId2"/>
          <a:stretch/>
        </p:blipFill>
        <p:spPr>
          <a:xfrm>
            <a:off x="6629400" y="4267080"/>
            <a:ext cx="2514600" cy="241632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5"/>
          <p:cNvSpPr/>
          <p:nvPr/>
        </p:nvSpPr>
        <p:spPr>
          <a:xfrm>
            <a:off x="7620120" y="3505320"/>
            <a:ext cx="1523880" cy="914400"/>
          </a:xfrm>
          <a:prstGeom prst="wedgeEllipseCallout">
            <a:avLst>
              <a:gd name="adj1" fmla="val -20310"/>
              <a:gd name="adj2" fmla="val 699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n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in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Comic Sans MS"/>
              </a:rPr>
              <a:t>Which answer best fits in the blank?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9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____________ bicycle is brok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eths'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eth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eth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eth'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bicycle1"/>
          <p:cNvPicPr/>
          <p:nvPr/>
        </p:nvPicPr>
        <p:blipFill>
          <a:blip r:embed="rId2"/>
          <a:stretch/>
        </p:blipFill>
        <p:spPr>
          <a:xfrm>
            <a:off x="5486400" y="3200400"/>
            <a:ext cx="3200400" cy="29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ikebe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Comic Sans MS"/>
              </a:rPr>
              <a:t>Which answer best fits in the blank?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9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____________ bicycle is brok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eths'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eth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eth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Comic Sans MS"/>
              </a:rPr>
              <a:t>	</a:t>
            </a:r>
            <a:r>
              <a:rPr b="1" lang="en-US" sz="4000" spc="-1" strike="noStrike" u="sng">
                <a:solidFill>
                  <a:srgbClr val="800000"/>
                </a:solidFill>
                <a:uFillTx/>
                <a:latin typeface="Comic Sans MS"/>
              </a:rPr>
              <a:t>D.</a:t>
            </a:r>
            <a:r>
              <a:rPr b="1" lang="en-US" sz="4000" spc="-1" strike="noStrike" u="sng">
                <a:solidFill>
                  <a:srgbClr val="800000"/>
                </a:solidFill>
                <a:uFillTx/>
                <a:latin typeface="Comic Sans MS"/>
              </a:rPr>
              <a:t>	</a:t>
            </a:r>
            <a:r>
              <a:rPr b="1" lang="en-US" sz="4000" spc="-1" strike="noStrike" u="sng">
                <a:solidFill>
                  <a:srgbClr val="800000"/>
                </a:solidFill>
                <a:uFillTx/>
                <a:latin typeface="Comic Sans MS"/>
              </a:rPr>
              <a:t>Seth'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4" descr="bicycle1"/>
          <p:cNvPicPr/>
          <p:nvPr/>
        </p:nvPicPr>
        <p:blipFill>
          <a:blip r:embed="rId2"/>
          <a:stretch/>
        </p:blipFill>
        <p:spPr>
          <a:xfrm>
            <a:off x="5638680" y="3124080"/>
            <a:ext cx="3200400" cy="29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ikebe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17160" y="-71640"/>
            <a:ext cx="8637480" cy="155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6600"/>
                </a:solidFill>
                <a:latin typeface="Arial"/>
              </a:rPr>
              <a:t>Do not confuse possessive words with plural words</a:t>
            </a: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sessive words show ownership.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Black’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dollhouse is smal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ural words show more than one.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ose </a:t>
            </a: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girl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are friendl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breatheblue"/>
          <p:cNvPicPr/>
          <p:nvPr/>
        </p:nvPicPr>
        <p:blipFill>
          <a:blip r:embed="rId2"/>
          <a:stretch/>
        </p:blipFill>
        <p:spPr>
          <a:xfrm>
            <a:off x="7924680" y="304920"/>
            <a:ext cx="857520" cy="8190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" descr="own"/>
          <p:cNvPicPr/>
          <p:nvPr/>
        </p:nvPicPr>
        <p:blipFill>
          <a:blip r:embed="rId3"/>
          <a:stretch/>
        </p:blipFill>
        <p:spPr>
          <a:xfrm>
            <a:off x="7926480" y="2438280"/>
            <a:ext cx="1217520" cy="15242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6" descr="folkkids"/>
          <p:cNvPicPr/>
          <p:nvPr/>
        </p:nvPicPr>
        <p:blipFill>
          <a:blip r:embed="rId4"/>
          <a:stretch/>
        </p:blipFill>
        <p:spPr>
          <a:xfrm>
            <a:off x="5715000" y="5389560"/>
            <a:ext cx="190512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Which answer best fits in the blank?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rash can will attract a lot of ____________ if you leave the lid off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ly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l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lie'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ly'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" descr="trashcantoon"/>
          <p:cNvPicPr/>
          <p:nvPr/>
        </p:nvPicPr>
        <p:blipFill>
          <a:blip r:embed="rId2"/>
          <a:stretch/>
        </p:blipFill>
        <p:spPr>
          <a:xfrm>
            <a:off x="5334120" y="3429000"/>
            <a:ext cx="2579400" cy="33526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fly2"/>
          <p:cNvPicPr/>
          <p:nvPr/>
        </p:nvPicPr>
        <p:blipFill>
          <a:blip r:embed="rId3"/>
          <a:stretch/>
        </p:blipFill>
        <p:spPr>
          <a:xfrm>
            <a:off x="4648320" y="3502080"/>
            <a:ext cx="757080" cy="71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fl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Which answer best fits in the blank?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rash can will attract a lot of ____________ if you leave the lid o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fl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ie'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y'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4" descr="trashcantoon"/>
          <p:cNvPicPr/>
          <p:nvPr/>
        </p:nvPicPr>
        <p:blipFill>
          <a:blip r:embed="rId2"/>
          <a:stretch/>
        </p:blipFill>
        <p:spPr>
          <a:xfrm>
            <a:off x="5334120" y="3429000"/>
            <a:ext cx="2579400" cy="33526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fly2"/>
          <p:cNvPicPr/>
          <p:nvPr/>
        </p:nvPicPr>
        <p:blipFill>
          <a:blip r:embed="rId3"/>
          <a:stretch/>
        </p:blipFill>
        <p:spPr>
          <a:xfrm>
            <a:off x="4648320" y="3502080"/>
            <a:ext cx="757080" cy="7174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fly2"/>
          <p:cNvPicPr/>
          <p:nvPr/>
        </p:nvPicPr>
        <p:blipFill>
          <a:blip r:embed="rId4"/>
          <a:stretch/>
        </p:blipFill>
        <p:spPr>
          <a:xfrm>
            <a:off x="5719680" y="2895480"/>
            <a:ext cx="757440" cy="7178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fly2"/>
          <p:cNvPicPr/>
          <p:nvPr/>
        </p:nvPicPr>
        <p:blipFill>
          <a:blip r:embed="rId5"/>
          <a:stretch/>
        </p:blipFill>
        <p:spPr>
          <a:xfrm>
            <a:off x="7467480" y="3200400"/>
            <a:ext cx="685800" cy="71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fl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fl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fl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Which answer best fits in the blank?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____________________ skin is re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mato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mato'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matos'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matos'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4" descr="tomato"/>
          <p:cNvPicPr/>
          <p:nvPr/>
        </p:nvPicPr>
        <p:blipFill>
          <a:blip r:embed="rId2"/>
          <a:stretch/>
        </p:blipFill>
        <p:spPr>
          <a:xfrm>
            <a:off x="5715000" y="3124080"/>
            <a:ext cx="2286000" cy="20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quish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Which answer best fits in the blank?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____________________ skin is re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mato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tomato'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matos'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matos'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4" descr="tomato"/>
          <p:cNvPicPr/>
          <p:nvPr/>
        </p:nvPicPr>
        <p:blipFill>
          <a:blip r:embed="rId2"/>
          <a:stretch/>
        </p:blipFill>
        <p:spPr>
          <a:xfrm>
            <a:off x="6248520" y="3124080"/>
            <a:ext cx="2286000" cy="20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quish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Which answer best fits in the blank?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desert is home to many kinds of _________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im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imal'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imals'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4"/>
          <p:cNvGrpSpPr/>
          <p:nvPr/>
        </p:nvGrpSpPr>
        <p:grpSpPr>
          <a:xfrm>
            <a:off x="4114800" y="3505320"/>
            <a:ext cx="4476600" cy="2819160"/>
            <a:chOff x="4114800" y="3505320"/>
            <a:chExt cx="4476600" cy="2819160"/>
          </a:xfrm>
        </p:grpSpPr>
        <p:pic>
          <p:nvPicPr>
            <p:cNvPr id="232" name="Picture 5" descr="Prairdog"/>
            <p:cNvPicPr/>
            <p:nvPr/>
          </p:nvPicPr>
          <p:blipFill>
            <a:blip r:embed="rId2">
              <a:lum bright="-6000"/>
            </a:blip>
            <a:stretch/>
          </p:blipFill>
          <p:spPr>
            <a:xfrm>
              <a:off x="4114800" y="4800600"/>
              <a:ext cx="112068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icture 6" descr="wolf1"/>
            <p:cNvPicPr/>
            <p:nvPr/>
          </p:nvPicPr>
          <p:blipFill>
            <a:blip r:embed="rId3"/>
            <a:stretch/>
          </p:blipFill>
          <p:spPr>
            <a:xfrm>
              <a:off x="5105520" y="3505320"/>
              <a:ext cx="2590560" cy="25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7" descr="lizard-yellow"/>
            <p:cNvPicPr/>
            <p:nvPr/>
          </p:nvPicPr>
          <p:blipFill>
            <a:blip r:embed="rId4"/>
            <a:stretch/>
          </p:blipFill>
          <p:spPr>
            <a:xfrm>
              <a:off x="6934320" y="5562720"/>
              <a:ext cx="165708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airiedo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6600"/>
                </a:solidFill>
                <a:uFillTx/>
                <a:latin typeface="Arial"/>
              </a:rPr>
              <a:t>High-Frequency Words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52480" y="2057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ring, bringing, __________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1828800" y="3657600"/>
            <a:ext cx="784224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ehind, brought, door, everybody, minute, promise, sorr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Which answer best fits in the blank?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desert is home to many kinds of _________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im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ani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imal'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imals'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4"/>
          <p:cNvGrpSpPr/>
          <p:nvPr/>
        </p:nvGrpSpPr>
        <p:grpSpPr>
          <a:xfrm>
            <a:off x="4114800" y="3505320"/>
            <a:ext cx="4476600" cy="2819160"/>
            <a:chOff x="4114800" y="3505320"/>
            <a:chExt cx="4476600" cy="2819160"/>
          </a:xfrm>
        </p:grpSpPr>
        <p:pic>
          <p:nvPicPr>
            <p:cNvPr id="238" name="Picture 5" descr="Prairdog"/>
            <p:cNvPicPr/>
            <p:nvPr/>
          </p:nvPicPr>
          <p:blipFill>
            <a:blip r:embed="rId2">
              <a:lum bright="-6000"/>
            </a:blip>
            <a:stretch/>
          </p:blipFill>
          <p:spPr>
            <a:xfrm>
              <a:off x="4114800" y="4800600"/>
              <a:ext cx="112068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6" descr="wolf1"/>
            <p:cNvPicPr/>
            <p:nvPr/>
          </p:nvPicPr>
          <p:blipFill>
            <a:blip r:embed="rId3"/>
            <a:stretch/>
          </p:blipFill>
          <p:spPr>
            <a:xfrm>
              <a:off x="5105520" y="3505320"/>
              <a:ext cx="2590560" cy="25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7" descr="lizard-yellow"/>
            <p:cNvPicPr/>
            <p:nvPr/>
          </p:nvPicPr>
          <p:blipFill>
            <a:blip r:embed="rId4"/>
            <a:stretch/>
          </p:blipFill>
          <p:spPr>
            <a:xfrm>
              <a:off x="6934320" y="5562720"/>
              <a:ext cx="165708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OL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Which answer best fits in the blank?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endra has two hamsters named Fuzzy and Furry.  The ____________________ cage looks like a tiny hou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msters'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ms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mster'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mster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4" descr="girl3"/>
          <p:cNvPicPr/>
          <p:nvPr/>
        </p:nvPicPr>
        <p:blipFill>
          <a:blip r:embed="rId2"/>
          <a:srcRect l="0" t="0" r="7409" b="0"/>
          <a:stretch/>
        </p:blipFill>
        <p:spPr>
          <a:xfrm>
            <a:off x="6172200" y="4114800"/>
            <a:ext cx="19051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IGGL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Which answer best fits in the blank?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44400" y="1905120"/>
            <a:ext cx="7599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endra has two hamsters named Fuzzy and Furry.  The ____________________ cage looks like a tiny hou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hamsters'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ms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mster'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mster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4" descr="hamsters"/>
          <p:cNvPicPr/>
          <p:nvPr/>
        </p:nvPicPr>
        <p:blipFill>
          <a:blip r:embed="rId2"/>
          <a:stretch/>
        </p:blipFill>
        <p:spPr>
          <a:xfrm>
            <a:off x="6537240" y="3962520"/>
            <a:ext cx="2606760" cy="28954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" descr="MAREX2A"/>
          <p:cNvPicPr/>
          <p:nvPr/>
        </p:nvPicPr>
        <p:blipFill>
          <a:blip r:embed="rId3"/>
          <a:stretch/>
        </p:blipFill>
        <p:spPr>
          <a:xfrm>
            <a:off x="7478640" y="0"/>
            <a:ext cx="16653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Which answer best fits in the blank?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lly will carry his ____________ suitcas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ster'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s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ste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ster'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4" descr="suitcase"/>
          <p:cNvPicPr/>
          <p:nvPr/>
        </p:nvPicPr>
        <p:blipFill>
          <a:blip r:embed="rId2"/>
          <a:stretch/>
        </p:blipFill>
        <p:spPr>
          <a:xfrm>
            <a:off x="5715000" y="3809880"/>
            <a:ext cx="227664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Which answer best fits in the blank?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828440" y="182880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lly will carry his ____________ suitcas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800000"/>
                </a:solidFill>
                <a:latin typeface="Arial"/>
              </a:rPr>
              <a:t>sister'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s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ste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ster'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4" descr="suitcase"/>
          <p:cNvPicPr/>
          <p:nvPr/>
        </p:nvPicPr>
        <p:blipFill>
          <a:blip r:embed="rId2"/>
          <a:stretch/>
        </p:blipFill>
        <p:spPr>
          <a:xfrm>
            <a:off x="5715000" y="3809880"/>
            <a:ext cx="227664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roan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Which answer best fits in the blank?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borrowed 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weat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ane'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a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a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anes'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4" descr="sweater"/>
          <p:cNvPicPr/>
          <p:nvPr/>
        </p:nvPicPr>
        <p:blipFill>
          <a:blip r:embed="rId2"/>
          <a:stretch/>
        </p:blipFill>
        <p:spPr>
          <a:xfrm>
            <a:off x="5715000" y="2971800"/>
            <a:ext cx="3019320" cy="29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Which answer best fits in the blank?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47920" y="19810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borrowed 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weat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800000"/>
                </a:solidFill>
                <a:latin typeface="Arial"/>
              </a:rPr>
              <a:t>Jane'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a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a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anes'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4" descr="Untitled-1"/>
          <p:cNvPicPr/>
          <p:nvPr/>
        </p:nvPicPr>
        <p:blipFill>
          <a:blip r:embed="rId2"/>
          <a:stretch/>
        </p:blipFill>
        <p:spPr>
          <a:xfrm>
            <a:off x="4114800" y="4191120"/>
            <a:ext cx="3495600" cy="2382840"/>
          </a:xfrm>
          <a:prstGeom prst="rect">
            <a:avLst/>
          </a:prstGeom>
          <a:ln w="0">
            <a:noFill/>
          </a:ln>
        </p:spPr>
      </p:pic>
      <p:sp>
        <p:nvSpPr>
          <p:cNvPr id="260" name="AutoShape 5"/>
          <p:cNvSpPr/>
          <p:nvPr/>
        </p:nvSpPr>
        <p:spPr>
          <a:xfrm>
            <a:off x="5029200" y="2286000"/>
            <a:ext cx="4114800" cy="1905120"/>
          </a:xfrm>
          <a:prstGeom prst="wedgeEllipseCallout">
            <a:avLst>
              <a:gd name="adj1" fmla="val -13273"/>
              <a:gd name="adj2" fmla="val 7641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5483880" y="2666880"/>
            <a:ext cx="3372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am Jane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s is my swe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How did you do?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nt more practice?  Try the button below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4" descr="clickherenow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24080" y="4267080"/>
            <a:ext cx="2762280" cy="12193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5" descr="think-monkey"/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6705720" y="3124080"/>
            <a:ext cx="2027160" cy="259092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5" name="jungle2.wav"/>
      </p:stSnd>
    </p:sndAc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6600"/>
                </a:solidFill>
                <a:uFillTx/>
                <a:latin typeface="Arial"/>
              </a:rPr>
              <a:t>High-Frequency Words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520" y="2057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knob, lock, __________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1752480" y="3886200"/>
            <a:ext cx="784224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ehind, brought, door, everybody, minute, promise, sorr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6600"/>
                </a:solidFill>
                <a:uFillTx/>
                <a:latin typeface="Arial"/>
              </a:rPr>
              <a:t>High-Frequency Words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all, everyone, __________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1905120" y="3809880"/>
            <a:ext cx="784224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ehind, brought, door, everybody, minute, promise, sorr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6600"/>
                </a:solidFill>
                <a:uFillTx/>
                <a:latin typeface="Arial"/>
              </a:rPr>
              <a:t>High-Frequency Words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905120" y="2057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, hour, __________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1905120" y="3886200"/>
            <a:ext cx="784224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ehind, brought, door, everybody, minute, promise, sorr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6600"/>
                </a:solidFill>
                <a:uFillTx/>
                <a:latin typeface="Arial"/>
              </a:rPr>
              <a:t>High-Frequency Words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52480" y="2057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above, in front, __________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1828800" y="3886200"/>
            <a:ext cx="784224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ehind, brought, door, everybody, minute, promise, sorr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7T23:35:43Z</dcterms:created>
  <dc:creator>Lauderdale County Schools</dc:creator>
  <dc:description/>
  <dc:language>en-US</dc:language>
  <cp:lastModifiedBy>teacher</cp:lastModifiedBy>
  <dcterms:modified xsi:type="dcterms:W3CDTF">2010-10-14T20:13:19Z</dcterms:modified>
  <cp:revision>9</cp:revision>
  <dc:subject/>
  <dc:title>A Turkey for Thanksgiving</dc:title>
</cp:coreProperties>
</file>